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922-7F68-4678-BEE6-B746C37F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0FC-B216-40CF-8B5D-24F6A8E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619-E129-4419-AD84-03237E6C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35A-213E-45AA-9D87-7E552044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3B79-4499-49F6-A672-8A01F1C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4EA5-ACFC-47AE-8FC5-C73F154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743-8C13-4AC0-BFF7-D183C23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ECE2-4C62-4331-AB22-E99D760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E5F0-6B8B-4DDB-94F2-C304A988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1DB4-62B1-4CCA-BDDF-BECC35B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0FA1-711D-40D5-8A26-3D3F8A7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A5A-4B27-4396-91EE-8EC96E5B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975D-1DAF-435D-8FFC-59EA97C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B630-4A6C-4A57-98A2-3B3168ED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9EEE-D8D6-41E1-80E4-E3715E32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5183-79CF-430B-8A1F-2BE3F0DC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B94-B8CD-4A34-BBFA-2CFD5745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00E-1B09-4E7C-AD04-8F581AA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744-3C25-46C5-892A-61F6FCF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AA8-98DB-40FD-A2CC-BFFA040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22E-0CA5-4ECD-969A-657D96B0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293-947E-4D4D-BE8F-7F50D31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03E-3347-4E2D-AA8C-97A6ADF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2B0-21F8-4B6D-BD5C-EC16E29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4FA-2531-407D-BB5D-6BA1593CBA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4E40-7136-4A2E-9CDE-DB093A246F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ИКА БЕЗОПАСН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C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СЛИВОЧНОГО МА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значительной степени безопасность сливочного масла определя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ойствами сырь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технологическими методами и прием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свойствами материалов для изготовления инвентаря, оборудования, тары и упаков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соблюдением санитарно-гигиенических треб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вязи с этим можно разделить факторы потенциальной опасности сливочного масла  для организма человека на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ырьевой, технологический, технический и санитарно-гигиенически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Каждый из  них может являться источником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биологической, физической, химической или радиационной опас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отдельности или в сочет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аблица 1 – Группы и виды опасных факторов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609480"/>
          <a:ext cx="8457840" cy="6121440"/>
        </p:xfrm>
        <a:graphic>
          <a:graphicData uri="http://schemas.openxmlformats.org/drawingml/2006/table">
            <a:tbl>
              <a:tblPr/>
              <a:tblGrid>
                <a:gridCol w="3223800"/>
                <a:gridCol w="5234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а опасных факт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ы опасных факт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ди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дионуклеи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оровье животных (хозяйства благополучные по инфекционным заболеваниям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соматических клеток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тыс. в 1м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тогенные микроорганизмы, в том числе сальмонеллы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МАФАнМ, КОЕ\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отность, 0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тность, кг\м3, не мене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гибирующие вещества, в том числе антибиотики, пестициды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флатоксин М, не более, мк/к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ксичные элементы, норм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ырьевой факто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Качество используемого сырья напрямую связано с формированием готового продукта. Качество молока зависит, прежде всего, от того, как и в каких условиях его получают, транспортируют, хранят и перерабатывают. Сырое молоко, поступающее на завод, не должно содержать патогенных микроорганизмов  и должно иметь низкую бактериальную обсемененность. С этой целью на фермах необходимо проведение комплекса мероприятий по предупреждению его инфицирования. Только обеспечение надлежащего ветеринарно-санитарного порядка, своевременная первичная обработка молока и соблюдение гигиенических условий его получения обуславливают производство сырья безвредного дл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Технологический факто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именение стандартных производственных технологических приемов сводит к минимума все факторы опасности при незначительных моментов рис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Технический факто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удование, аппаратура, инвентарь, посуда и тара, находясь в тесном контакте с сырьем на пути его превращения в готовый продукт, не могут не оказывать существенно влияние на его качество. В связи с этим оборудование и аппаратуру, инвентарь, посуду, тару необходимо изготавливать из материала, не оказывающих вредного воздействия на продукты, химически устойчивых, не подвергающихся коррозии, выдерживающих неоднократные операции мойки и дезинфекции, легко поддающихся очистки и санитарной обработке, на адсорбирующих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анитарно-гигиенический фактор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объектам санитарно-гигиенического контроля относят: оборудование, аппаратуру, посуду, инвентарь, руки, спецодежду работников, воду, используемую в производстве, воздух производственных помещений, а также материалы производства. Несоблюдение санитарно-гигиенических требований является причиной потенциальной опас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одя итог, можно сказать, что если предотвратить грубые нарушения гигиенических требований, а также и вторичную контаминацию сырья, то инфекционная опасность, вызываемая патогенными возбудителями при употреблении сливочного масла, очень м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тя сливочное масло при условии технологических регламентов считаются надежными в микробиологическом отношении продуктами, приведенные аргументы и примеры однозначно свидетельствуют о том, что и на этом производстве для обеспечения качества и безопасности выпускаемой продукции работа должна осуществляться по принципа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работки систем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CP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н перечень критических контрольных точе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иемка и первичная обработка мол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астеризация слив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-преобразование высокожирных сливок в масл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-фасовка мас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-хра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ическими пределами для контрольной точки «Хранение готовой продукции на складе» опасными факторами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бактерии группы кишечной палочки (БГКП).Могут попасть в готовую продукцию воздушным путем, через больных людей и животных, насекомых, грызу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дрожжи (при пастеризации полностью погибают, но могут   попасть   в   готовую   продукцию   из окружающей   среды   во   время хран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лесени (невработанная влага, пустот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вредные   вещества  (мышьяк,   ртуть,   кадмий,   свинец),   пестициды   и радионуклиды  (цезий  -   137,  стронций  -  90).  Могут  попасть в готовую продукцию из окружающей среды, причем, загрязнения из внешней среды довольно стабильны и имеют тенденцию к увеличению токсич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чая групп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ст по обеспечению качества – Жундубаева А. Ж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ст по производству – Тюекпаева З. 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ый инженер – Кошулян О. 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женер – технолог – Токмурзина А. 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ст по микробиологии – Альмагамбетова Д.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вить содержание в готовой продукции вышеуказанных опасных факторов можно проведением соответствующих анализов, установленных нормативной документацией на методы испыт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809880" cy="4406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ями допустимого риска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БГКП - масса продукта (г), в которой не допускаются более 0,0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рожжей - количество колонеобразующих единиц в 1 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а должно быть меньше или равно 50 КОЕ/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лесени - количество колонеобразующих единиц в 1 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а должно быть меньше или равно 100 КОЕ/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вредных веществ, пестицидов и радионуклидов в 1  кг продукта не должно превышать критических пределов. мышьяк - 0,3 мг/кг;  ртуть - 0,02 мг/кг;   кадмий - 0,1 мг/кг;  свинец -0,5 мг/кг гексахлорциклогексан (а, р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меры) - 0,2 мг/кг;    ДДТ и его метаболиты - 0,02 мг/кг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зий - 137-50 мг/кг; стронций - 90 - 30 мг/к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езультате проведенной работы был выявлен общий перечень потенциально опасных факторов (биологических, химических, физичес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дя оценку рисков выявилось, что три фактора попадают в область не допустимого риска, следовательно, на определенных этапах производства не обходимо ужесточить контроль предотвращающий условие возникновения угроз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критической контрольной точки "хранение продукции" в случае нарушения опасными факторами критических пределов должны быть предприняты следующие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рректирующие дейст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для дрожжей и плесени – необходимо провести внеплановую дезинфекцию складского помещения и обеспечить строгое соблюдение условий хранения готовой продукции (температура, влажност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вредных веществ, пестицидов и радионуклидов - необходимо провести внеплановую проверку исправности приточно-вытяжной вентиляции, местных отсосов, вытяжных зонтов; провести очистку воздуха в производственных и бытовых помещениях и, для предупреждения накапливания вредных веществ в воздухе, проводить систематическую вентиляцию производственных, бытовых и складских помещ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3848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изация систем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предприятиях даст следующие преимущест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истем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C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зволит защитить фирменную марку предприя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даст возможность выхода предприятия на внешний рын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система является весомым аргументом в судебных тяжбах, так как признается страховыми компаниями при страховании ответствен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даст преимущества при участии в важных тендер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позволит повысить степень доверия потребителя и  заручиться  поддержкой местной администр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76920" y="152280"/>
            <a:ext cx="4267080" cy="670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денная работа позволит предприятию обеспечить потребителя безопасной продукцие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51814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ливочное масл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является одним из разновидностей пищевых жиров. Оно является концентратом молочного жира, в котором содержатся также белки, углеводы, фосфатиды, водорастворимые витамины, минеральные соли. Масло, полученное в летний период, когда коровы пасутся на выпасах содержат токоферол, витамин А, витамин D, небольшое количество каротина. Все вышеперечисленные витамины содержатся и в масле, произведенном зимой, но в гораздо меньших количесвах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Масло сливочное"/>
          <p:cNvPicPr/>
          <p:nvPr/>
        </p:nvPicPr>
        <p:blipFill>
          <a:blip r:embed="rId1"/>
          <a:stretch/>
        </p:blipFill>
        <p:spPr>
          <a:xfrm>
            <a:off x="5791320" y="380880"/>
            <a:ext cx="3352680" cy="5181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отличие от подсолнечного масла сливочное масло является пищевым жиром животного происхождения, которое благодаря большому количеству витаминов, минералов и других полезных веществ находит широкое применение в питании человека. Содержащийся в масле витамин А не содержится ни в подсолнечном, ни в оливковом масле, а без него не будет полноценного питания организма и развития костной основы, иммунной системы, з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нергия сливочного масла является одной из самых больших, содержащихся в пищевых жирах. Ненасыщенные жирные кислоты, присутствующие в масле, участвуют в процессах накопления энергетической независимости организма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стоящее сливочное масл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одержит в своем составе не менее 82,5 % жирности. Все остальное, что продается в торговых точках, собственно говоря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ливочным маслом не является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 их составе содержатся консерванты, эмульгаторы, и много другого, что вряд ли можно прочитать на этикетк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038480" y="38088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ависимости от типа используемых сливок, сливочное масло делится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адко-сливочное, производимое из пастеризованных свежих сливок,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исло-сливочное, производимое из пастеризованных сливок, сквашенных молочнокислыми заквасками (что придаёт маслу специфические вкус и аромат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048120" cy="403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4572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нщина сбивает масло. Якутия, конец XIX — начало XX 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ависимости от массовой доли жира, имеется следующая классификация мас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диционное, массовая доля жира 82,5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ительское, массовая доля жира 80,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естьянское, массовая доля жира 72,5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тербродное, массовая доля жира 61,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йное, массовая доля жира 50,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334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новным требованием к качеству сливочного масла является безопасность для жизни и здоровья потребителей. Опасность и риск для здоровья могут быть выявлены биологическими, физическими, химическими и радиационного воздействия продукта на человеческий орган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комплексный критерий качества и безопасности молока-сырья для всех без исключения молочных продуктов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локо должно быть получено от здоровых животных в хозяйствах, благополучных по инфекционным болезням, согласно действующему Ветеринарному законодатель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5:42Z</dcterms:created>
  <dc:creator>zhanka</dc:creator>
  <dc:description/>
  <dc:language>en-US</dc:language>
  <cp:lastModifiedBy>zhanka</cp:lastModifiedBy>
  <dcterms:modified xsi:type="dcterms:W3CDTF">2011-10-28T05:25:1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